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6.png" ContentType="image/png"/>
  <Override PartName="/ppt/media/image10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14648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2785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542785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2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A39D-52CC-4263-89B0-263D2A0DF2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75E4-7B44-460C-8A42-F3A8894C3D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06CD-5F2A-4C81-BF74-790415C0D4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08D7-3287-4EA0-824C-1E33C579F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78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423E-34FC-4F7E-97B8-80A9C7CE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78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511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511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E5D9-5EDD-4651-9C3D-41740EAE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78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60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70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60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70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91E6-48A9-4CC6-9B06-EDFDB17B7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79C0-6FA0-40A6-85C1-AF5C8D13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785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CBFF-D879-475E-B202-C441E7BD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78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68F8-26B2-4EC4-8F3E-4CAD7E79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78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511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8FB7-5184-491A-9104-8BC1A0CF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7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9753-6FD7-4A7A-BD5A-D2E7C736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761760"/>
            <a:ext cx="7543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0D17-B4B8-4264-AAF0-F72FF6BA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78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11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AB82-65B4-4E1E-8B65-B86A39AC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78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33C4-93BA-41D9-A488-C5C393CB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78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11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511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F698-3EE6-4C7C-88B2-8215D3F9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78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11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229A-686C-4A9D-BEC8-2779E3AC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78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428E-6A90-4351-A47D-2942AB8F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78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511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11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A26A-FEDC-4E97-BD56-F7CFF59D0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78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60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7870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60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7870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B4D1-2F41-4E52-BF44-ACC4B4A1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78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BDB1-EBAF-48E8-B460-BDCD555A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78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511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4A47-1A35-4A15-AAF5-F1825FEB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7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A4A5-8B98-4FBC-A615-A39F7510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761760"/>
            <a:ext cx="7543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3E19-98CD-40DC-BADA-88AE6352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78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511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C340-CB9A-4902-85C1-5FDB5F05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78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511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511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B09A-DD7C-42EE-8177-B90AF5EF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278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511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93B5-6173-4C29-B83B-515A3150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OLA_PPT_bkgrd_graphic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808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2785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427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5820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ol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95BE-6294-4578-BAED-16A655DD43AA}" type="slidenum">
              <a:rPr b="0" lang="en-US" sz="1000" spc="-1" strike="noStrike">
                <a:solidFill>
                  <a:srgbClr val="ffffff"/>
                </a:solidFill>
                <a:latin typeface="Arial Bold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7" descr="OLAgroup_color"/>
          <p:cNvPicPr/>
          <p:nvPr/>
        </p:nvPicPr>
        <p:blipFill>
          <a:blip r:embed="rId3"/>
          <a:stretch/>
        </p:blipFill>
        <p:spPr>
          <a:xfrm>
            <a:off x="5943600" y="0"/>
            <a:ext cx="22860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5" descr="OLA_PPT_bkgrd_graphic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2"/>
          <p:cNvSpPr/>
          <p:nvPr/>
        </p:nvSpPr>
        <p:spPr>
          <a:xfrm>
            <a:off x="0" y="3429000"/>
            <a:ext cx="8381880" cy="2514600"/>
          </a:xfrm>
          <a:prstGeom prst="rect">
            <a:avLst/>
          </a:prstGeom>
          <a:solidFill>
            <a:srgbClr val="542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808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8" descr="OLAgroup_color"/>
          <p:cNvPicPr/>
          <p:nvPr/>
        </p:nvPicPr>
        <p:blipFill>
          <a:blip r:embed="rId3"/>
          <a:stretch/>
        </p:blipFill>
        <p:spPr>
          <a:xfrm>
            <a:off x="5943600" y="0"/>
            <a:ext cx="2286000" cy="914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2785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42785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45820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ol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97A9-BEAD-42BD-B305-202888B34533}" type="slidenum">
              <a:rPr b="0" lang="en-US" sz="1000" spc="-1" strike="noStrike">
                <a:solidFill>
                  <a:srgbClr val="ffffff"/>
                </a:solidFill>
                <a:latin typeface="Arial Bold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2785"/>
                </a:solidFill>
                <a:latin typeface="Arial"/>
              </a:rPr>
              <a:t>Building a Culture for Growth</a:t>
            </a:r>
            <a:br>
              <a:rPr sz="2800"/>
            </a:br>
            <a:endParaRPr b="0" lang="en-US" sz="2800" spc="-1" strike="noStrike">
              <a:solidFill>
                <a:srgbClr val="54278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440" y="3657600"/>
            <a:ext cx="7543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. Jim La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EALTHY_model"/>
          <p:cNvPicPr/>
          <p:nvPr/>
        </p:nvPicPr>
        <p:blipFill>
          <a:blip r:embed="rId1"/>
          <a:stretch/>
        </p:blipFill>
        <p:spPr>
          <a:xfrm>
            <a:off x="5835600" y="1644480"/>
            <a:ext cx="224172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408240" y="533520"/>
            <a:ext cx="492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Arial"/>
              </a:rPr>
              <a:t>Do you want to pl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407160" y="1838160"/>
            <a:ext cx="4518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Community Gam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398520" y="3651120"/>
            <a:ext cx="4446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Wall Street Gam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1005120" y="2666880"/>
            <a:ext cx="49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0% started out playing cooperatively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continued through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028880" y="4487760"/>
            <a:ext cx="726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0% did not cooperate, and the oth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pped cooperating when they saw what was happe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ounded Rectangle 7"/>
          <p:cNvSpPr/>
          <p:nvPr/>
        </p:nvSpPr>
        <p:spPr>
          <a:xfrm>
            <a:off x="380880" y="1752480"/>
            <a:ext cx="4724640" cy="752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d121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8"/>
          <p:cNvSpPr/>
          <p:nvPr/>
        </p:nvSpPr>
        <p:spPr>
          <a:xfrm>
            <a:off x="380880" y="3591000"/>
            <a:ext cx="4724640" cy="752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d121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2266920" y="173160"/>
            <a:ext cx="5962680" cy="6532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228600" y="76320"/>
            <a:ext cx="53352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1666800" cy="8049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"/>
          <p:cNvSpPr/>
          <p:nvPr/>
        </p:nvSpPr>
        <p:spPr>
          <a:xfrm>
            <a:off x="549360" y="1600200"/>
            <a:ext cx="547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tate of the American </a:t>
            </a:r>
            <a:r>
              <a:rPr b="1" lang="en-US" sz="2600" spc="-1" strike="noStrike">
                <a:solidFill>
                  <a:srgbClr val="7575d1"/>
                </a:solidFill>
                <a:latin typeface="Arial"/>
              </a:rPr>
              <a:t>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"/>
          <p:cNvSpPr/>
          <p:nvPr/>
        </p:nvSpPr>
        <p:spPr>
          <a:xfrm>
            <a:off x="685800" y="2362320"/>
            <a:ext cx="3933720" cy="3733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4"/>
          <p:cNvSpPr/>
          <p:nvPr/>
        </p:nvSpPr>
        <p:spPr>
          <a:xfrm>
            <a:off x="2652840" y="2362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6"/>
          <p:cNvSpPr/>
          <p:nvPr/>
        </p:nvSpPr>
        <p:spPr>
          <a:xfrm>
            <a:off x="2652840" y="4038480"/>
            <a:ext cx="16905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7"/>
          <p:cNvSpPr/>
          <p:nvPr/>
        </p:nvSpPr>
        <p:spPr>
          <a:xfrm>
            <a:off x="2977560" y="3276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1453680" y="388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2127"/>
                </a:solidFill>
                <a:latin typeface="Arial"/>
              </a:rPr>
              <a:t>5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2901240" y="4948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b6bcf"/>
                </a:solidFill>
                <a:latin typeface="Arial"/>
              </a:rPr>
              <a:t>1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3151080" y="38545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2"/>
          <p:cNvSpPr/>
          <p:nvPr/>
        </p:nvSpPr>
        <p:spPr>
          <a:xfrm>
            <a:off x="1105920" y="46083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eng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3"/>
          <p:cNvSpPr/>
          <p:nvPr/>
        </p:nvSpPr>
        <p:spPr>
          <a:xfrm>
            <a:off x="3304080" y="6086520"/>
            <a:ext cx="23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ly non-eng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ircular Arrow 14"/>
          <p:cNvSpPr/>
          <p:nvPr/>
        </p:nvSpPr>
        <p:spPr>
          <a:xfrm>
            <a:off x="4800600" y="3276720"/>
            <a:ext cx="2424240" cy="2131920"/>
          </a:xfrm>
          <a:custGeom>
            <a:avLst/>
            <a:gdLst/>
            <a:ahLst/>
            <a:rect l="l" t="t" r="r" b="b"/>
            <a:pathLst>
              <a:path w="2424113" h="2132013">
                <a:moveTo>
                  <a:pt x="133251" y="1066007"/>
                </a:moveTo>
                <a:cubicBezTo>
                  <a:pt x="133251" y="595692"/>
                  <a:pt x="538222" y="198946"/>
                  <a:pt x="1077960" y="140485"/>
                </a:cubicBezTo>
                <a:cubicBezTo>
                  <a:pt x="1585077" y="85557"/>
                  <a:pt x="2067182" y="345833"/>
                  <a:pt x="2232712" y="763904"/>
                </a:cubicBezTo>
                <a:lnTo>
                  <a:pt x="2354011" y="763903"/>
                </a:lnTo>
                <a:lnTo>
                  <a:pt x="2157611" y="1066006"/>
                </a:lnTo>
                <a:lnTo>
                  <a:pt x="1821008" y="763903"/>
                </a:lnTo>
                <a:lnTo>
                  <a:pt x="1936054" y="763903"/>
                </a:lnTo>
                <a:cubicBezTo>
                  <a:pt x="1775623" y="505252"/>
                  <a:pt x="1429526" y="361525"/>
                  <a:pt x="1080392" y="408563"/>
                </a:cubicBezTo>
                <a:cubicBezTo>
                  <a:pt x="687847" y="461449"/>
                  <a:pt x="399753" y="739725"/>
                  <a:pt x="399753" y="1066007"/>
                </a:cubicBezTo>
                <a:lnTo>
                  <a:pt x="133251" y="106600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5"/>
          <p:cNvSpPr/>
          <p:nvPr/>
        </p:nvSpPr>
        <p:spPr>
          <a:xfrm>
            <a:off x="6185520" y="449568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ag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6788520" y="5405400"/>
            <a:ext cx="1043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b050"/>
                </a:solidFill>
                <a:latin typeface="Arial"/>
              </a:rPr>
              <a:t>30%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1676520" y="208080"/>
            <a:ext cx="6553080" cy="6441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228600" y="76320"/>
            <a:ext cx="53352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533520" y="-380880"/>
            <a:ext cx="7467480" cy="74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0" descr="Healthy_base"/>
          <p:cNvPicPr/>
          <p:nvPr/>
        </p:nvPicPr>
        <p:blipFill>
          <a:blip r:embed="rId1"/>
          <a:stretch/>
        </p:blipFill>
        <p:spPr>
          <a:xfrm>
            <a:off x="2287440" y="1295280"/>
            <a:ext cx="5335560" cy="5335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share-"/>
          <p:cNvPicPr/>
          <p:nvPr/>
        </p:nvPicPr>
        <p:blipFill>
          <a:blip r:embed="rId2"/>
          <a:stretch/>
        </p:blipFill>
        <p:spPr>
          <a:xfrm>
            <a:off x="2286000" y="1295280"/>
            <a:ext cx="5335560" cy="53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7646760" cy="5489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609480" cy="5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ectangle 1" descr=""/>
          <p:cNvPicPr/>
          <p:nvPr/>
        </p:nvPicPr>
        <p:blipFill>
          <a:blip r:embed="rId1"/>
          <a:stretch/>
        </p:blipFill>
        <p:spPr>
          <a:xfrm>
            <a:off x="384120" y="609480"/>
            <a:ext cx="3048120" cy="9208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"/>
          <p:cNvSpPr/>
          <p:nvPr/>
        </p:nvSpPr>
        <p:spPr>
          <a:xfrm>
            <a:off x="3400560" y="822240"/>
            <a:ext cx="361116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Your ability to act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n the worl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6"/>
          <p:cNvCxnSpPr/>
          <p:nvPr/>
        </p:nvCxnSpPr>
        <p:spPr>
          <a:xfrm flipH="1">
            <a:off x="2987280" y="2133360"/>
            <a:ext cx="1296000" cy="1524600"/>
          </a:xfrm>
          <a:prstGeom prst="straightConnector1">
            <a:avLst/>
          </a:prstGeom>
          <a:ln w="38160">
            <a:solidFill>
              <a:srgbClr val="6b6bcf"/>
            </a:solidFill>
            <a:miter/>
            <a:tailEnd len="med" type="arrow" w="med"/>
          </a:ln>
        </p:spPr>
      </p:cxnSp>
      <p:cxnSp>
        <p:nvCxnSpPr>
          <p:cNvPr id="102" name="Straight Arrow Connector 8"/>
          <p:cNvCxnSpPr/>
          <p:nvPr/>
        </p:nvCxnSpPr>
        <p:spPr>
          <a:xfrm>
            <a:off x="4282560" y="2133360"/>
            <a:ext cx="1296360" cy="1448280"/>
          </a:xfrm>
          <a:prstGeom prst="straightConnector1">
            <a:avLst/>
          </a:prstGeom>
          <a:ln w="38160">
            <a:solidFill>
              <a:srgbClr val="6b6bcf"/>
            </a:solidFill>
            <a:miter/>
            <a:tailEnd len="med" type="arrow" w="med"/>
          </a:ln>
        </p:spPr>
      </p:cxnSp>
      <p:sp>
        <p:nvSpPr>
          <p:cNvPr id="103" name="TextBox 9"/>
          <p:cNvSpPr/>
          <p:nvPr/>
        </p:nvSpPr>
        <p:spPr>
          <a:xfrm>
            <a:off x="1599120" y="4191120"/>
            <a:ext cx="221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ng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umility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4948200" y="411480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ng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Rectangle 12" descr=""/>
          <p:cNvPicPr/>
          <p:nvPr/>
        </p:nvPicPr>
        <p:blipFill>
          <a:blip r:embed="rId2"/>
          <a:stretch/>
        </p:blipFill>
        <p:spPr>
          <a:xfrm>
            <a:off x="1798560" y="5486400"/>
            <a:ext cx="1835280" cy="706320"/>
          </a:xfrm>
          <a:prstGeom prst="rect">
            <a:avLst/>
          </a:prstGeom>
          <a:ln w="0">
            <a:noFill/>
          </a:ln>
        </p:spPr>
      </p:pic>
      <p:pic>
        <p:nvPicPr>
          <p:cNvPr id="106" name="Rectangle 13" descr=""/>
          <p:cNvPicPr/>
          <p:nvPr/>
        </p:nvPicPr>
        <p:blipFill>
          <a:blip r:embed="rId3"/>
          <a:stretch/>
        </p:blipFill>
        <p:spPr>
          <a:xfrm>
            <a:off x="5443560" y="5486400"/>
            <a:ext cx="1128600" cy="706320"/>
          </a:xfrm>
          <a:prstGeom prst="rect">
            <a:avLst/>
          </a:prstGeom>
          <a:ln w="0">
            <a:noFill/>
          </a:ln>
        </p:spPr>
      </p:pic>
      <p:sp>
        <p:nvSpPr>
          <p:cNvPr id="107" name="Rounded Rectangle 14"/>
          <p:cNvSpPr/>
          <p:nvPr/>
        </p:nvSpPr>
        <p:spPr>
          <a:xfrm>
            <a:off x="1447920" y="4038480"/>
            <a:ext cx="2666880" cy="228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15"/>
          <p:cNvSpPr/>
          <p:nvPr/>
        </p:nvSpPr>
        <p:spPr>
          <a:xfrm>
            <a:off x="4648320" y="4038480"/>
            <a:ext cx="2666880" cy="228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457200" y="3657600"/>
            <a:ext cx="693432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re are surveys called </a:t>
            </a:r>
            <a:r>
              <a:rPr b="1" lang="en-US" sz="1900" spc="-1" strike="noStrike">
                <a:solidFill>
                  <a:srgbClr val="ffc000"/>
                </a:solidFill>
                <a:latin typeface="Arial"/>
              </a:rPr>
              <a:t>The Narcissism Tes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that ask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hether respondents agree with statements like, “I like to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e the center of attention because I’m so extraordinary”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r “Somebody should write a biography about me.”  </a:t>
            </a:r>
            <a:r>
              <a:rPr b="0" lang="en-US" sz="1900" spc="-1" strike="noStrike">
                <a:solidFill>
                  <a:srgbClr val="7575d1"/>
                </a:solidFill>
                <a:latin typeface="Arial"/>
              </a:rPr>
              <a:t>Th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575d1"/>
                </a:solidFill>
                <a:latin typeface="Arial"/>
              </a:rPr>
              <a:t>median narcissism score has gone up 30% in 20 year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vid Brook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6781680" y="3943440"/>
            <a:ext cx="1933560" cy="26859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457200" y="5335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live in a culture of self-promo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951200"/>
            <a:ext cx="640080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e’ve encouraged generations to think highly of themselves.  In 1950, the Gallup organization asked high-school seniors, ‘Are you a very important person?”  Back then </a:t>
            </a:r>
            <a:r>
              <a:rPr b="1" lang="en-US" sz="1900" spc="-1" strike="noStrike">
                <a:solidFill>
                  <a:srgbClr val="ffc000"/>
                </a:solidFill>
                <a:latin typeface="Arial"/>
              </a:rPr>
              <a:t>12%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said yes.  Gallup asked </a:t>
            </a:r>
            <a:r>
              <a:rPr b="0" lang="en-US" sz="1900" spc="-1" strike="noStrike">
                <a:solidFill>
                  <a:srgbClr val="7575d1"/>
                </a:solidFill>
                <a:latin typeface="Arial"/>
              </a:rPr>
              <a:t>the same question in 2005, and 80% said ye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3"/>
          <p:cNvSpPr/>
          <p:nvPr/>
        </p:nvSpPr>
        <p:spPr>
          <a:xfrm>
            <a:off x="457200" y="1523880"/>
            <a:ext cx="5638680" cy="0"/>
          </a:xfrm>
          <a:prstGeom prst="line">
            <a:avLst/>
          </a:prstGeom>
          <a:ln w="28440">
            <a:solidFill>
              <a:srgbClr val="6b6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254520" y="914400"/>
            <a:ext cx="492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Machiavell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"/>
          <p:cNvSpPr/>
          <p:nvPr/>
        </p:nvSpPr>
        <p:spPr>
          <a:xfrm>
            <a:off x="63360" y="-4876920"/>
            <a:ext cx="7629840" cy="10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Machievelli statue.jpg"/>
          <p:cNvPicPr/>
          <p:nvPr/>
        </p:nvPicPr>
        <p:blipFill>
          <a:blip r:embed="rId1"/>
          <a:stretch/>
        </p:blipFill>
        <p:spPr>
          <a:xfrm>
            <a:off x="5108400" y="828720"/>
            <a:ext cx="3810240" cy="64864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0"/>
          <p:cNvSpPr/>
          <p:nvPr/>
        </p:nvSpPr>
        <p:spPr>
          <a:xfrm>
            <a:off x="478080" y="1981080"/>
            <a:ext cx="41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 your power at all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1"/>
          <p:cNvSpPr/>
          <p:nvPr/>
        </p:nvSpPr>
        <p:spPr>
          <a:xfrm>
            <a:off x="293760" y="2666880"/>
            <a:ext cx="48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Speak just enough truth to giv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appearance of being trustwor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4"/>
          <p:cNvSpPr/>
          <p:nvPr/>
        </p:nvSpPr>
        <p:spPr>
          <a:xfrm>
            <a:off x="300960" y="3886200"/>
            <a:ext cx="489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, it is better to be fe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 l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1911240" y="1123920"/>
            <a:ext cx="5321520" cy="46101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3"/>
          <p:cNvSpPr/>
          <p:nvPr/>
        </p:nvSpPr>
        <p:spPr>
          <a:xfrm>
            <a:off x="3214800" y="4191120"/>
            <a:ext cx="2652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acing the good o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ose led over t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lf interes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f the lea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533520" cy="758880"/>
          </a:xfrm>
          <a:prstGeom prst="rect">
            <a:avLst/>
          </a:prstGeom>
          <a:ln w="0">
            <a:noFill/>
          </a:ln>
        </p:spPr>
      </p:pic>
      <p:sp>
        <p:nvSpPr>
          <p:cNvPr id="123" name="Straight Connector 6"/>
          <p:cNvSpPr/>
          <p:nvPr/>
        </p:nvSpPr>
        <p:spPr>
          <a:xfrm>
            <a:off x="3200400" y="4114800"/>
            <a:ext cx="27432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2173320" y="173160"/>
            <a:ext cx="6056280" cy="6511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228600" y="76320"/>
            <a:ext cx="53352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1246320" y="173160"/>
            <a:ext cx="6983280" cy="6511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228600" y="76320"/>
            <a:ext cx="53352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531360" y="990720"/>
            <a:ext cx="63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eople feel rebuffed or left out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565200" y="1838160"/>
            <a:ext cx="641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rain activates a site for regi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p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416880" y="3048120"/>
            <a:ext cx="67032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remember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f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reater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more int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 they do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encoura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5943600" y="3657600"/>
            <a:ext cx="2776680" cy="2825640"/>
          </a:xfrm>
          <a:prstGeom prst="rect">
            <a:avLst/>
          </a:prstGeom>
          <a:ln w="0">
            <a:noFill/>
          </a:ln>
        </p:spPr>
      </p:pic>
      <p:sp>
        <p:nvSpPr>
          <p:cNvPr id="132" name="Straight Connector 5"/>
          <p:cNvSpPr/>
          <p:nvPr/>
        </p:nvSpPr>
        <p:spPr>
          <a:xfrm>
            <a:off x="685800" y="1514520"/>
            <a:ext cx="633096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395640" y="15228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Encour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2819520" y="93600"/>
            <a:ext cx="5410080" cy="6597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228600" y="76320"/>
            <a:ext cx="53352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04:39:48Z</dcterms:created>
  <dc:creator>Rodney Pritchard</dc:creator>
  <dc:description/>
  <dc:language>en-US</dc:language>
  <cp:lastModifiedBy>Microsoft Office User</cp:lastModifiedBy>
  <cp:lastPrinted>2015-06-05T20:13:47Z</cp:lastPrinted>
  <dcterms:modified xsi:type="dcterms:W3CDTF">2017-11-30T20:40:46Z</dcterms:modified>
  <cp:revision>226</cp:revision>
  <dc:subject/>
  <dc:title>PowerPoint Presentation</dc:title>
</cp:coreProperties>
</file>